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FDDA9-804B-42A7-88F9-202B07484C5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DAC72-9CCC-490D-8050-1955C457B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C969A-3DA5-4C2A-88AE-E610D0FAA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452BE-445F-4175-AEA8-488809BD4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5F9C7-0D2E-4575-8581-9B1BB38CC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F4CCE-A24E-46F2-94B4-69857F2FA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A2FB2-39D0-405A-8CD2-6683B6750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B24C7-DF6C-43B8-8CA7-E5BE8DEE2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4CB32-75A1-478C-9DE0-7CF5B11B5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73DA0-6CD0-49BA-B428-5C58CDDBC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1AA465-CACA-4518-A870-255EE7369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91788-41D9-4F7A-81D4-1B76822DD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2CF32-2300-49C4-A595-B975F3690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9A5C0-6EB6-43EE-B935-0D963254D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DFB5A-AF77-4910-AFF8-EE47A4E89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96D04-6ED6-4E6D-94AC-8CC904D15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64031-F9F3-4543-9A72-21DA6DBD7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AB79F-D77C-4CFB-9BDC-D3C518744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559B1-BA76-4A12-BECA-C53E3609A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200C5-5607-43CA-9BCA-DFCF74F5E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0AD5A-A932-4405-A49A-AEE4BED16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2B6B5-E4AE-4C02-80E0-01F3F1255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8795E-B608-42AD-91CC-290257C2B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EF0BA-8692-429B-9828-C420B8DCF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0203A-341B-4FF0-8E69-FEABC6F50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6F389-89C2-4EA4-9A62-99C9AF6F4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F58AC-FB73-4C00-8EE7-07CAA6AF3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5B8ED-D2BC-4B30-A01F-7EC317A62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F57E2-B4A8-41F7-8749-28918A9BD1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D911D87-6259-41FB-BD32-BE23454232C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3A24174-863A-40E1-BC4C-2BF6FEC1E7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A7111B6C-D611-4CAC-9E69-FDC1741301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133891F-23D9-4873-9825-9E0F94F6B6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5773E01-E8D3-4DDC-A2FE-09443DE301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EECD449-575A-4DC1-8769-FC74AA7513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9463916-3DDE-41C0-9DAA-AAABA833C3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6DF1A49-B9B3-4159-A0AA-30B5B2BEC9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C12F45C-4DE7-4E9D-AB21-12FFFB5386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34BC874-2A61-4EF1-805D-C2E5139E77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5F52CAE-9E52-421C-A881-B8BBA3B73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344489D-12C8-4C34-8E35-E96BDEE8D3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AD493AF-71DC-49DE-8FB2-B4E82D98EA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C57DFB0-2103-413C-9341-1E92A8890BD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D4570A4-94A6-4BF2-B940-A9BA659DC73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F5B6555-9AF9-4C0E-A768-6B4E348148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353DC8C-CC1C-4B37-ADA6-F6A963124CE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236489A-0BFB-46FF-A09B-FDF19F7B13C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F0E7A8F-F9CC-4B19-86F1-64ECA8BFD69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692597A-38AE-4DC4-892A-1B4B27FC086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3701834-E47A-418A-8861-67BCA65999D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8D49983-4615-4621-BCE8-B8E3DD8B0A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B79AF2F-7A70-49BA-98DE-1B617140D22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BBD1CC4-1199-44AB-9467-7BC9D4C9CEC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CC0C654-C608-46C4-BCCD-786C7D43D1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C947FE0-F43C-40B6-9B05-A8D8C20EB79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3D85715-8F50-4CD5-9BA6-2EC8B896FA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5F2020C-829F-4A03-A0E9-61451E18F0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2F499E2-83BC-4BE5-A59E-2212B1BA4B8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D9F324A1-B3B2-4521-B64D-F8A4831C49B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A501803-9B10-4694-9F9C-A89D2160E5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37535BE-BE81-4DCE-9DF4-CCAF2F0AAED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454E336-CAE4-4E37-BA8D-D7E9C3BC16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B555F0-4A38-45FC-BD66-C6181D500F6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70D4BFC-ED93-4917-A4C4-13B45F8F6F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F71CF38-E1B9-4AC1-9B61-DA6B9231755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E62386F-9DD5-4283-930E-84C6289CC98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F2235C0-F63F-4F3F-BFF1-9DD8871E4B1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255A2DC-A3FE-4637-876E-A740956BB1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F0D53A2-2E16-47EF-AF83-9E6BE173C2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04DB203-6C92-47BB-81E7-C41739DD7A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6DCFF6A-0BCD-49B1-BB91-A55FB61553E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816AE05-9AD6-44F8-8E84-5A32E423080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D2C4C82-3028-446C-9BEB-D110355713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864C505-AB0B-443D-899C-421B0FBC08A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152E4C9-8BBE-4B4B-BAF7-257F56A54E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C74E732-2D63-465D-98C3-16326D8353E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3BD4651-14DD-4ABA-8BE5-D2AB3E7C73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5AE23F3-2CE6-45EA-8255-1E0363676D1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D14491A-2BF7-4663-8B58-6B4D61CC8EE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B22FE50-7667-4912-B748-F143FB25567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0A4BA68-B2F4-4A47-91CC-EAF587310E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634854F-FEDE-44DF-8801-4C631C0501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BAD7DF6-8ACA-4D7B-A4AB-B53A17BEB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74B6D64-3B22-4964-8899-2A72F5553E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E23B1F8-AB4C-4D95-BFD9-F12C05A23BA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3D7772B-F662-4C4D-99E5-6A9A8A6281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4DABF65-2DF3-43DD-B7CB-8C28CADEF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5C81D76-7FE6-4E3F-AACE-F591BAE0D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B636F41-BEB9-4ED5-8EC9-9145FBA83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6008EE1-3990-494A-A534-401F59252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2774E22-D3E7-4060-BE19-608E94A20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A9DDEC8-3A79-42AB-8EFF-A1844E4EB68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0073A7-C358-4C1A-842C-20E0303532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09DAB9F-DD53-41F0-AAE8-27916D3FDC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F11C058-D40C-4CB3-8411-B9C02A6540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5C0BC26-ABD9-4C22-92E8-497E65EE22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B8E792B-BDB8-405F-A059-BC8FD3B83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C630457-77AD-4F92-BEF6-DB8AC7DDB5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FD0963B-641F-4C67-9BDD-4F115CB5E4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74C512E-D093-4772-8EEA-8D97574985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D6CE77B-F563-4219-B1FE-66FF0C1DE4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E40FCAE-EA48-4CA6-9FE7-DDD1E05968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801C33-59EE-4E1F-9E5B-580DFBEF5A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F9D6A3-C644-43D6-8465-F2AE1317AE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3B6623-3BD9-4B39-B873-5EA7F59A72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EFE7BAE-A944-4943-A234-D37D3C699C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FBCB3A-D100-4468-B09D-B30C38020F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7B0FBB3-5AC5-461A-BEB3-20EA4EA2D8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7086079-C29D-41C1-ADBF-704C60F9DF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C8DB4E4-D9D6-4C2E-9B99-6512865309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C44025D-6B4F-4D76-849F-1EF43A6051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51B2F8A-A671-45FB-9C93-9D5CFC915A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99D6562-D299-47EA-B0D1-0FE4A4D581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2A13A64-479E-47F2-BEA7-E2EFB190E5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09FBEDE-C515-4716-A806-69184247F3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83470-1F28-4631-844C-7B83B04A193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AA24D11-C3DB-489C-A1D7-1175B1D209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CC003A7-CEF0-48E8-9A7C-45139DD20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E0B377A-E650-4C9F-8775-B552E730CA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11B9BC1-1983-4531-860B-673421FF0BE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6A8FD705-7302-47FF-9784-CA4D3ADA8BE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7E48CEF-A81A-4940-948F-2C1EA18116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415722E-62E1-4051-A808-B9C4945AC83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F685B14-C4C2-4AAB-B14D-5037E67063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FB41336-EDAC-4F56-A330-C49FD857B16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BE7A308-A510-4FB5-8C6D-C4EBB2A13C3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66E60175-BE00-4321-8EDB-CD4673E0B07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E1AEEF82-5D41-4B98-905B-BA8E2F2A9B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137D6C-5B95-49F3-B115-5C59A62228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CF21399-F13F-4FB4-93D8-1D1EC70687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4D5A5C8-A930-4337-9713-A6B76F79C2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3CC24B2-E3A3-44F9-9265-5435F2ABD1F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74F8438-2669-46B4-B9D2-1D1A04BE6B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4392726-B2A6-4B8E-9627-BDE968501AA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7B3E825-981A-400A-8F6D-668AE9EE23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4A4723D-BB4E-438F-8F48-11D0465615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EB86F84-9B71-48BC-AEDF-D5E5DE06AF1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5CB06BD-8CC3-40C2-86A5-CFF55DAB50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897D068-B88E-4CC0-A9CC-DD97712FF3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BE3A545-C66F-42B3-A05E-306E3C9AB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25FC564-0C25-4807-B3C9-B42BE17F24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A4E7D9CD-E303-4939-83AA-000C0BA3D8D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916094-8E7E-4525-8360-4B8F7B2976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F235F06-A147-4C00-A0BF-8506D4CE93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E1DF2E1-F8E8-4131-87F2-054AF091AC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57008A9-9F8A-45AF-9392-BD5126B9B58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F69B407E-19F6-467B-BE86-46ED2F11ABD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8FEAB60-555D-44A9-B507-B9408246736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1FB2DD8-FF86-4DB6-AE4A-8539A0023CB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392136E-0C69-4FA8-B564-46F57C22E86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EF10239-ADFA-4FF3-AE13-57B44652EE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E4B9596-40E4-4908-8704-278199D61C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A5DADE2-0F3A-4A74-93AD-5F181691BD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B2389DED-DAEC-41F0-9AFC-70C2BE6CB48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2CFC987-9740-4DE7-8497-4478CBAE553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6ECBAAC-2EB7-488C-9D71-DDD110A5D65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67F0E1C-31CE-4E2A-81E8-B3EB3FDF330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67EDF0D-CF69-4A68-81B3-B1184B85FEC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9AD0C11-EF2E-4A58-ADED-860215D5591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1570818F-7998-4BB9-ABEB-6827FAF3521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A0234F7-B907-447F-B4BF-29EC376E6B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0B7BEFB-6FA0-4A73-BC8D-77210AA37D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F87FB33-FB36-4C79-A4EC-3247074DB8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C84CAAF-6A45-468E-9AD4-60EAAD8F1E7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70C3B75-075D-4E85-83F7-B2586D6BCE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F8B06F2-222A-4700-AF58-D05991FCD85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50303781-825C-4A7C-9702-8D5DEEF15CD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DFABC2A-87B5-452B-B75E-D8AF0BF6C0D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5335275-23D9-4484-8F46-0860230855F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69585B6-CC70-492E-8CB0-072015BA5A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049AE64-F6D6-47B3-9461-CF1060DA23B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4D5F2B8-2685-44D0-A649-2DEA873DAB1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3E300081-D25F-49B6-9AAD-AD722D19AC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BF14791-704F-498A-9BC6-B9882EDDDA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13E17DF-946C-4B95-A519-D73DA85547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0AFCBC7-A2CC-44C0-BE54-8A981F0997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1E2BB79-4174-43E7-AFF0-3F2B122BC42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AC9A0A5-541B-46B0-A0CA-16ECB203AB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0551C2B-B1C3-44C6-847D-FDE1F0858CB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8A51681-F991-44AD-A827-B869ADB470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015FC1E2-B29C-41DE-85F6-CF6EDE5CB5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80F6943-05EF-4AB6-9084-7862B718C0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3FAAF1B-6604-4095-B5E9-2D2A776302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6D38141-A7E0-476C-9D61-363431ED9B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C9DD5-75B1-4C3E-B033-0EF24823A6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6DB75-8188-4E89-9DBC-7E43885A69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AA80D-CA4B-4548-B9E9-D9094B8F43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D5905-5E70-4356-87C5-BDC352ACF8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81CB7-8C2F-4431-8DF4-5388610F2F5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035B1-F1A7-46C4-B60D-41DE0582E7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BA297-FE15-4806-BFE3-A8098DD01A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22770-71A6-4F51-BFE0-60F47A361D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3B7F3-19BB-438F-86B7-7750C5DFC5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92036-AE0D-4B8C-9812-445EDBB2B4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7A553-F26E-4829-900B-E7410CD268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AB79F-24E0-4C09-85A6-33C6C0B787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0E183-2AE1-403C-BC57-5F30DD45BE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125360"/>
            <a:ext cx="8496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052640"/>
            <a:ext cx="83516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93" name="" descr=""/>
          <p:cNvPicPr/>
          <p:nvPr/>
        </p:nvPicPr>
        <p:blipFill>
          <a:blip r:embed="rId1"/>
          <a:stretch/>
        </p:blipFill>
        <p:spPr>
          <a:xfrm>
            <a:off x="0" y="0"/>
            <a:ext cx="9144000" cy="1368360"/>
          </a:xfrm>
          <a:prstGeom prst="rect">
            <a:avLst/>
          </a:prstGeom>
          <a:ln w="0">
            <a:noFill/>
          </a:ln>
        </p:spPr>
      </p:pic>
      <p:pic>
        <p:nvPicPr>
          <p:cNvPr id="794" name="" descr=""/>
          <p:cNvPicPr/>
          <p:nvPr/>
        </p:nvPicPr>
        <p:blipFill>
          <a:blip r:embed="rId2"/>
          <a:stretch/>
        </p:blipFill>
        <p:spPr>
          <a:xfrm>
            <a:off x="1258920" y="2060640"/>
            <a:ext cx="1297080" cy="1528560"/>
          </a:xfrm>
          <a:prstGeom prst="rect">
            <a:avLst/>
          </a:prstGeom>
          <a:ln w="0">
            <a:noFill/>
          </a:ln>
        </p:spPr>
      </p:pic>
      <p:pic>
        <p:nvPicPr>
          <p:cNvPr id="795" name="" descr=""/>
          <p:cNvPicPr/>
          <p:nvPr/>
        </p:nvPicPr>
        <p:blipFill>
          <a:blip r:embed="rId3"/>
          <a:stretch/>
        </p:blipFill>
        <p:spPr>
          <a:xfrm>
            <a:off x="6948360" y="1989000"/>
            <a:ext cx="1444680" cy="1573200"/>
          </a:xfrm>
          <a:prstGeom prst="rect">
            <a:avLst/>
          </a:prstGeom>
          <a:ln w="0">
            <a:noFill/>
          </a:ln>
        </p:spPr>
      </p:pic>
      <p:sp>
        <p:nvSpPr>
          <p:cNvPr id="79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79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4:15Z</dcterms:modified>
  <cp:revision>153</cp:revision>
  <dc:subject/>
  <dc:title>Παρουσίαση του PowerPoint</dc:title>
</cp:coreProperties>
</file>